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269-7E22-4B7B-9747-3A247F09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592-27CD-409A-9C9F-66A4397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16D-8432-4E8C-BFEF-B417DA29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2A3-2E07-4903-A4DB-189D7A99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9499-56AE-4F9A-B41B-E8130D27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834-014C-4A9D-8517-B2CB6F3C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EB1E-F4E6-49CF-80AB-E3D85B92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BFCE-DCC9-4CF7-BC5C-3FD2132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B81-C26B-401F-A7F0-37FFF8CE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C90-9A5A-4DB1-850D-1B1F4E07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CE1F-B25D-4B26-89AA-4696090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D71-F3C3-41C3-8191-3447960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3689-CB9F-4CA8-8B16-B221154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ADAF-34B5-483A-99BA-E102B3D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C397-3290-4551-BC19-76147A8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B7B7-6E00-44F9-8643-C64363D9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23B-5469-4358-B304-31F891D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AC3-1013-478D-9469-03EB03D3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787-A116-42A0-8127-85C2A4C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181-1618-44DB-9C08-87F6491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3B5-3652-4FD8-A53C-658E17B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897-10D8-43AE-B37C-33CE00A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1FE-44EE-424E-842B-A64A1B8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129-826C-462C-8760-7C22CA4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377-F17E-4704-8EF4-A7BDF899E41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EA5-FC2A-4803-9A4E-3AB3B14DAEB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Numeracy At St Peter’s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MVC-012F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Mathematics/Numera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thematics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bstract and scientific underpinning of concepts and skills that involves mathematical thinking and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is Numerac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effective use of mathematics to meet the general demands of life at home, at work and for participation in community and civic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SINE at St Peter’s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ccess in Numeracy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atholic Education Initiative Prep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volves individual pre-assess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ocused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ngaged learning through involvement in problem solving and hands on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n-going monitoring and 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S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ividual learning plans for children at ri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vers learning outcomes in Number, Space, Measurement and Chance and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volves parents and teachers in a partnership to support children’s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Growth Points In Coun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ral or rote 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unting colle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rceptual 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unt on / count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pplying basic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2:26:00Z</dcterms:created>
  <dc:creator>juliep</dc:creator>
  <dc:description/>
  <dc:language>en-US</dc:language>
  <cp:lastModifiedBy>juliep</cp:lastModifiedBy>
  <dcterms:modified xsi:type="dcterms:W3CDTF">2006-02-08T23:04:13Z</dcterms:modified>
  <cp:revision>2</cp:revision>
  <dc:subject/>
  <dc:title>Numeracy At St Peter’s School</dc:title>
</cp:coreProperties>
</file>